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D942-92DB-4409-832C-986CBF5740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9532-395F-46C1-A893-41D7E259F5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4CC2-005F-4F82-8B33-16AA51898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DCA7-6F5B-4668-B5D0-8890E6A64F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737F-D1B5-4974-8383-D299376903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ECFB-782D-4396-B060-0DA9099885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5AC-CC3B-4CB5-B9F8-122A28FB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1AA-A5DB-45D9-8210-B83906AD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9A8-6B80-4BDF-AFBB-CC1EDBDE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295-FA4D-41A2-BA90-3E164716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E89-DC9F-4321-9D01-78031404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58C-1181-473A-AAB3-35380170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65C-0AE8-42B9-9EAA-79B0E0CF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9E1-E524-4B5B-8A26-C27DF5F3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AB4-81C5-4B5F-BECB-0C32155C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D9D-F0EB-4B47-996D-3834C81B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62C-DAF4-4920-9C18-F22E0CA2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C05-DDE2-461A-9A2E-021C1A86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1D6E-1F54-4FBD-AA9D-36A9B68EA14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1" descr=""/>
          <p:cNvPicPr/>
          <p:nvPr/>
        </p:nvPicPr>
        <p:blipFill>
          <a:blip r:embed="rId1"/>
          <a:stretch/>
        </p:blipFill>
        <p:spPr>
          <a:xfrm>
            <a:off x="298440" y="36360"/>
            <a:ext cx="8852040" cy="185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366920" y="1928880"/>
            <a:ext cx="3195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看  心</a:t>
            </a:r>
            <a:endParaRPr b="1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62680" y="178596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鳥</a:t>
            </a:r>
            <a:endParaRPr b="1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076120" y="421488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老</a:t>
            </a:r>
            <a:endParaRPr b="1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433840" y="428616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果</a:t>
            </a:r>
            <a:endParaRPr b="1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-572040"/>
            <a:ext cx="9144000" cy="685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0"/>
            </a:br>
            <a:r>
              <a:rPr b="1" lang="zh-CN" sz="12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果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loud 4"/>
          <p:cNvSpPr/>
          <p:nvPr/>
        </p:nvSpPr>
        <p:spPr>
          <a:xfrm>
            <a:off x="4357800" y="214200"/>
            <a:ext cx="4000320" cy="200052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水</a:t>
            </a:r>
            <a:r>
              <a:rPr b="1" lang="zh-CN" sz="8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果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loud 5"/>
          <p:cNvSpPr/>
          <p:nvPr/>
        </p:nvSpPr>
        <p:spPr>
          <a:xfrm>
            <a:off x="571680" y="3357720"/>
            <a:ext cx="7786440" cy="278604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你有什麼水</a:t>
            </a:r>
            <a:r>
              <a:rPr b="1" lang="zh-CN" sz="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果</a:t>
            </a:r>
            <a:r>
              <a:rPr b="1" lang="zh-CN" sz="8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？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2000160" y="42876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1819440" cy="207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929040" y="1143000"/>
            <a:ext cx="1608120" cy="1814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6786720" y="1000080"/>
            <a:ext cx="1571400" cy="182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2286000" y="3714840"/>
            <a:ext cx="1643040" cy="176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5500800" y="3071880"/>
            <a:ext cx="2143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3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</a:t>
            </a:r>
            <a:r>
              <a:rPr b="0" lang="zh-CN" sz="173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loud 10"/>
          <p:cNvSpPr/>
          <p:nvPr/>
        </p:nvSpPr>
        <p:spPr>
          <a:xfrm>
            <a:off x="1214280" y="357120"/>
            <a:ext cx="3714840" cy="20001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這裡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 12"/>
          <p:cNvSpPr/>
          <p:nvPr/>
        </p:nvSpPr>
        <p:spPr>
          <a:xfrm>
            <a:off x="5500800" y="1214280"/>
            <a:ext cx="328608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r>
              <a:rPr b="1" lang="zh-CN" sz="6000" spc="-1" strike="noStrike">
                <a:solidFill>
                  <a:srgbClr val="000000"/>
                </a:solidFill>
                <a:latin typeface="文鼎標楷下漢語拼音C1"/>
                <a:ea typeface="文鼎標楷下漢語拼音C1"/>
              </a:rPr>
              <a:t>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17"/>
          <p:cNvSpPr/>
          <p:nvPr/>
        </p:nvSpPr>
        <p:spPr>
          <a:xfrm>
            <a:off x="3786120" y="4000680"/>
            <a:ext cx="385776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一</a:t>
            </a: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857760" y="2500200"/>
            <a:ext cx="1319040" cy="15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142640" y="4214520"/>
            <a:ext cx="18572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loud 6"/>
          <p:cNvSpPr/>
          <p:nvPr/>
        </p:nvSpPr>
        <p:spPr>
          <a:xfrm>
            <a:off x="5000760" y="500040"/>
            <a:ext cx="364320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問問</a:t>
            </a: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 7"/>
          <p:cNvSpPr/>
          <p:nvPr/>
        </p:nvSpPr>
        <p:spPr>
          <a:xfrm>
            <a:off x="4714920" y="4143240"/>
            <a:ext cx="357192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說說</a:t>
            </a: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 8"/>
          <p:cNvSpPr/>
          <p:nvPr/>
        </p:nvSpPr>
        <p:spPr>
          <a:xfrm>
            <a:off x="428760" y="785880"/>
            <a:ext cx="378612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想想</a:t>
            </a: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643200" y="3071880"/>
            <a:ext cx="131940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 </a:t>
            </a:r>
            <a:r>
              <a:rPr b="1" lang="zh-CN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心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書卷 (水平) 3"/>
          <p:cNvSpPr/>
          <p:nvPr/>
        </p:nvSpPr>
        <p:spPr>
          <a:xfrm>
            <a:off x="8715240" y="6858000"/>
            <a:ext cx="428760" cy="4608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 5"/>
          <p:cNvSpPr/>
          <p:nvPr/>
        </p:nvSpPr>
        <p:spPr>
          <a:xfrm>
            <a:off x="5857920" y="214200"/>
            <a:ext cx="328608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點</a:t>
            </a:r>
            <a:r>
              <a:rPr b="1" lang="zh-CN" sz="88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 6"/>
          <p:cNvSpPr/>
          <p:nvPr/>
        </p:nvSpPr>
        <p:spPr>
          <a:xfrm>
            <a:off x="571680" y="3714840"/>
            <a:ext cx="335736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有</a:t>
            </a:r>
            <a:r>
              <a:rPr b="1" lang="zh-CN" sz="88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 7"/>
          <p:cNvSpPr/>
          <p:nvPr/>
        </p:nvSpPr>
        <p:spPr>
          <a:xfrm>
            <a:off x="500040" y="214200"/>
            <a:ext cx="328608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小</a:t>
            </a:r>
            <a:r>
              <a:rPr b="1" lang="zh-CN" sz="88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 8"/>
          <p:cNvSpPr/>
          <p:nvPr/>
        </p:nvSpPr>
        <p:spPr>
          <a:xfrm>
            <a:off x="5857920" y="3571920"/>
            <a:ext cx="328608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好</a:t>
            </a:r>
            <a:r>
              <a:rPr b="1" lang="zh-CN" sz="8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429080" y="4214880"/>
            <a:ext cx="11080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loud 6"/>
          <p:cNvSpPr/>
          <p:nvPr/>
        </p:nvSpPr>
        <p:spPr>
          <a:xfrm>
            <a:off x="1857240" y="1214280"/>
            <a:ext cx="7286760" cy="32864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這是誰的</a:t>
            </a:r>
            <a:r>
              <a:rPr b="1" lang="zh-CN" sz="72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？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00040" y="4286160"/>
            <a:ext cx="1928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love 102309.jpg"/>
          <p:cNvPicPr/>
          <p:nvPr/>
        </p:nvPicPr>
        <p:blipFill>
          <a:blip r:embed="rId1"/>
          <a:stretch/>
        </p:blipFill>
        <p:spPr>
          <a:xfrm>
            <a:off x="214200" y="571680"/>
            <a:ext cx="2141640" cy="18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heart 111509.jpg"/>
          <p:cNvPicPr/>
          <p:nvPr/>
        </p:nvPicPr>
        <p:blipFill>
          <a:blip r:embed="rId2"/>
          <a:stretch/>
        </p:blipFill>
        <p:spPr>
          <a:xfrm>
            <a:off x="3286080" y="4643280"/>
            <a:ext cx="2032200" cy="1859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6286680" y="4500720"/>
            <a:ext cx="1107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loud 3"/>
          <p:cNvSpPr/>
          <p:nvPr/>
        </p:nvSpPr>
        <p:spPr>
          <a:xfrm>
            <a:off x="0" y="3429000"/>
            <a:ext cx="614376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我的</a:t>
            </a:r>
            <a:r>
              <a:rPr b="1" lang="zh-CN" sz="72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r>
              <a:rPr b="1" lang="zh-CN" sz="5400" spc="-1" strike="noStrike">
                <a:solidFill>
                  <a:srgbClr val="000000"/>
                </a:solidFill>
                <a:latin typeface="文鼎標楷下漢語拼音C1"/>
                <a:ea typeface="文鼎標楷下漢語拼音C1"/>
              </a:rPr>
              <a:t>在哪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 4"/>
          <p:cNvSpPr/>
          <p:nvPr/>
        </p:nvSpPr>
        <p:spPr>
          <a:xfrm>
            <a:off x="2857680" y="357120"/>
            <a:ext cx="600048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這</a:t>
            </a:r>
            <a:r>
              <a:rPr b="1" lang="zh-CN" sz="72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是誰的</a:t>
            </a:r>
            <a:r>
              <a:rPr b="1" lang="zh-CN" sz="72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？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eart 111509.jpg"/>
          <p:cNvPicPr/>
          <p:nvPr/>
        </p:nvPicPr>
        <p:blipFill>
          <a:blip r:embed="rId1"/>
          <a:stretch/>
        </p:blipFill>
        <p:spPr>
          <a:xfrm>
            <a:off x="214200" y="357120"/>
            <a:ext cx="2500560" cy="2287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eart-1 111509.jpg"/>
          <p:cNvPicPr/>
          <p:nvPr/>
        </p:nvPicPr>
        <p:blipFill>
          <a:blip r:embed="rId2"/>
          <a:stretch/>
        </p:blipFill>
        <p:spPr>
          <a:xfrm>
            <a:off x="7000920" y="3429000"/>
            <a:ext cx="1822320" cy="1643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5857920" y="4786200"/>
            <a:ext cx="11080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鳥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loud 10"/>
          <p:cNvSpPr/>
          <p:nvPr/>
        </p:nvSpPr>
        <p:spPr>
          <a:xfrm>
            <a:off x="285840" y="214200"/>
            <a:ext cx="4000320" cy="185760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 </a:t>
            </a:r>
            <a:r>
              <a:rPr b="1" lang="zh-CN" sz="72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小鳥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birds 11-15-9.jpg"/>
          <p:cNvPicPr/>
          <p:nvPr/>
        </p:nvPicPr>
        <p:blipFill>
          <a:blip r:embed="rId2"/>
          <a:stretch/>
        </p:blipFill>
        <p:spPr>
          <a:xfrm>
            <a:off x="3143160" y="2000160"/>
            <a:ext cx="2692440" cy="21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bird cartoon 11-15-09.jpg"/>
          <p:cNvPicPr/>
          <p:nvPr/>
        </p:nvPicPr>
        <p:blipFill>
          <a:blip r:embed="rId3"/>
          <a:stretch/>
        </p:blipFill>
        <p:spPr>
          <a:xfrm>
            <a:off x="1571760" y="4214880"/>
            <a:ext cx="2071440" cy="223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bird 1 11-15-09.jpg"/>
          <p:cNvPicPr/>
          <p:nvPr/>
        </p:nvPicPr>
        <p:blipFill>
          <a:blip r:embed="rId4"/>
          <a:stretch/>
        </p:blipFill>
        <p:spPr>
          <a:xfrm>
            <a:off x="6143760" y="4429080"/>
            <a:ext cx="2673360" cy="200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bird 11-15-09.jpg"/>
          <p:cNvPicPr/>
          <p:nvPr/>
        </p:nvPicPr>
        <p:blipFill>
          <a:blip r:embed="rId5"/>
          <a:stretch/>
        </p:blipFill>
        <p:spPr>
          <a:xfrm>
            <a:off x="6357960" y="500040"/>
            <a:ext cx="2214720" cy="26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6"/>
          <a:stretch/>
        </p:blipFill>
        <p:spPr>
          <a:xfrm>
            <a:off x="3714840" y="4429080"/>
            <a:ext cx="15714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0a22e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3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</a:t>
            </a: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老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loud 4"/>
          <p:cNvSpPr/>
          <p:nvPr/>
        </p:nvSpPr>
        <p:spPr>
          <a:xfrm>
            <a:off x="214200" y="428760"/>
            <a:ext cx="4000680" cy="221436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老師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loud 5"/>
          <p:cNvSpPr/>
          <p:nvPr/>
        </p:nvSpPr>
        <p:spPr>
          <a:xfrm>
            <a:off x="4286160" y="4286160"/>
            <a:ext cx="4000680" cy="185760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老朋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loud 6"/>
          <p:cNvSpPr/>
          <p:nvPr/>
        </p:nvSpPr>
        <p:spPr>
          <a:xfrm>
            <a:off x="4643280" y="642960"/>
            <a:ext cx="3714840" cy="214308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老人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500280" y="2500200"/>
            <a:ext cx="14288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7:35:02Z</dcterms:created>
  <dc:creator>Customer</dc:creator>
  <dc:description/>
  <dc:language>en-US</dc:language>
  <cp:lastModifiedBy>Monica</cp:lastModifiedBy>
  <dcterms:modified xsi:type="dcterms:W3CDTF">2009-11-16T16:56:14Z</dcterms:modified>
  <cp:revision>27</cp:revision>
  <dc:subject/>
  <dc:title>生詞練習</dc:title>
</cp:coreProperties>
</file>